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5EC-6E35-4CD0-BEF9-2E087694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E069-45B1-4A6F-812E-2528E302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FE6F-43B9-4B87-A0E1-95483266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2D4-AEEA-4B84-A16E-B9633FFF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E213-F7F7-4896-BA25-6ACB3AB3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87D5-2C54-4A52-B73E-B65CEFAD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AE28-A8F1-49EE-B7BE-3A9F8662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B01D-E8D4-4F79-A1FD-1CBB4444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9AC8-4D5C-43C5-900B-B26AA63C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BE8D-A2B7-44D6-BC12-DF38C41B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6C2F-2BBE-4C4F-8ADF-E970CB85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BB3F-F02C-44FC-825C-1DC5ADAA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98C2-A6CB-4682-BBB0-4DE5C08B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E83B-3A5A-49F6-BD67-0A5825AA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F345-E998-4DA6-8D32-4359E359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3EC5-1A10-4159-B4C2-6256E3DF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9E01-291C-481C-B65B-F68CA3E6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E7E3B-0B05-48C9-863A-51394FBA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71688-1D86-4A2B-A621-18C5C698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AA00-8880-4274-A8AD-42D0BA01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86A3E-33AA-4677-BD0B-AC97869D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02A07-21D0-4D82-8CB6-CDE74C7D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6FE-A85C-4DBF-A1DA-97817D84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7AA9D-15CA-4BBF-B656-CFB1377B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275A1-3BC0-44F5-89FB-A5B9A1A9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DE0CD-FD2F-4B6A-B333-83430C08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D2655-7B8D-40B4-9817-DEDA54AF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5445D-B7B9-4381-A845-D50E2D4D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35837-6B28-464C-9171-BDB86E3F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8B550-C32D-4E58-86B8-B31C2442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D8552-550F-4A27-AD6D-FF8F2D36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C58C5-4C5B-4E24-AADC-6E95DC5A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A4002-D39A-4CBA-87A2-B708CCE7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599-F817-4FB2-B156-F97F2D20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42170-0A76-4E63-8422-8A4C603E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A0D4A-4838-43A8-A8EA-EC63CCC6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E2FA4-D420-429E-BEFB-F18AADE7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2E6DC-9151-4E25-9CC6-B82F2F8E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3CE39-D9FD-432A-A6B2-BCE7C4E3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46182-B478-48E3-AA05-BADAC1C5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166CF-880D-437F-9280-8675D291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59F28-B40E-454D-93EF-616F8BED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5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5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232F6-2613-4D80-911C-41FD6CB1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F318-4EB0-4880-A991-9A11134C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10A-29D5-4DD7-AF8A-496BC77B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6ED-8E41-450A-91B9-4D2A0588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2A8-C417-48D4-9AD3-02B1D648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57B-6269-48F6-B355-EA46AC56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6767C-C462-4038-B73D-9644C7EDF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3183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66640" y="634680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31000" y="6346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92044-8F76-48B1-B605-6CE1D946E7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52D54-2F96-45FE-BF8F-87A29C587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CED4B-56B0-47D4-ACA4-F5882A5138C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businessweek.com/news/2012-04-02/swiss-stocks-climb-for-second-day-roche-novartis-gain" TargetMode="External"/><Relationship Id="rId3" Type="http://schemas.openxmlformats.org/officeDocument/2006/relationships/hyperlink" Target="http://www.businessweek.com/news/2012-03-15/swiss-stocks-rise-on-u-dot-s-dot-factory-reports-clariant-gains" TargetMode="External"/><Relationship Id="rId4" Type="http://schemas.openxmlformats.org/officeDocument/2006/relationships/hyperlink" Target="http://media.lonelyplanet.com/lpi/25464/25464-11/469x264.jpg" TargetMode="External"/><Relationship Id="rId5" Type="http://schemas.openxmlformats.org/officeDocument/2006/relationships/hyperlink" Target="http://solari.com/blog/wp-content/uploads/2012/01/Swiss-National-Bank-President-Philipp-Hildebrand-.jpg" TargetMode="External"/><Relationship Id="rId6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Swiss Economy on the Ris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9070920" cy="63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businessweek.com/news/2012-04-02/swiss-stocks-climb-for-second-day-roche-novartis-g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alfred.stlouisfed.org/series?seid=CHECINSQDSM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businessweek.com/news/2012-03-15/swiss-stocks-rise-on-u-dot-s-dot-factory-reports-clariant-ga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media.lonelyplanet.com/lpi/25464/25464-11/469x264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solari.com/blog/wp-content/uploads/2012/01/Swiss-National-Bank-President-Philipp-Hildebrand-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alfred.stlouisfed.org/graph/alfredgraph.png?chart_type=bar&amp;s_1=1&amp;s%5B1%5D%5Bid%5D=CHECINSQDSMEI&amp;s%5B1%5D%5Bvintage_date%5D=2011-09-12&amp;s%5B1%5D%5Bcosd%5D=1980-01-01&amp;s%5B1%5D%5Bcoed%5D=2011-04-01&amp;s%5B1%5D%5Brange%5D=Custom&amp;s%5B1%5D%5Bline_color%5D=%230000FF&amp;s_2=1&amp;s%5B2%5D%5Bid%5D=CHECINSQDSMEI&amp;s%5B2%5D%5Bvintage_date%5D=2011-12-12&amp;s%5B2%5D%5Bcosd%5D=1980-01-01&amp;s%5B2%5D%5Bcoed%5D=&amp;s%5B2%5D%5Brange%5D=Custom&amp;s%5B2%5D%5Bline_color%5D=%23FF0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7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US Stocks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zerland stocks have been rising from US manufacturing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wiss Market Index, a measure of the largest and most actively traded companies, rose 1 percent to 6,299.3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ss stocks extended gains after the ISM’s U.S. manufacturing index rose to 53.4 in March from 52.4 a month earli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US Stocks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ss manufacturing output expanded for the first time in seven months in March, adding to signs the economy is stabiliz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artis AG added 1.8 percent after an experimental treatment for smoker’s cough met the main goal in three tri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Swiss Stocks Ris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ss stocks climbed, extending a nine-month high, after the International Mone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ntobel Holding AG, the Swiss bank that specializes in derivatives, advanced 1.5 perc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429000" y="4514760"/>
            <a:ext cx="263844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Swiss Bank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zerland’s central bank maintained the Swiss currency’s ceiling at 1.20 francs per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riant increased 3.5 percent to 12.94 Swiss francs as a gauge of European chemical companies advanc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enos jumped 5 percent to 15.80 francs after the ban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Swiss Bank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maker predicted revenue of $450 million to $500 mill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wiss National Bank also kept its benchmark interest rate at z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wiss government raised its economic growth forecast for this year and said the country will not enter a rec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Swiss Stocks Graph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raph shows that the stocks had declined before in recent yea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means that stocks should now ri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9144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stocks intended to do in the next couple of yea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: Stay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: De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the stocks done in the past recent yea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 Stayed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: De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: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Answers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ocks in Switzerland are intended to increase in the next couple of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ocks in Switzerland have decreased in the recent past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2:31:56Z</dcterms:created>
  <dc:creator>Austin Averett</dc:creator>
  <dc:description/>
  <dc:language>en-US</dc:language>
  <cp:lastModifiedBy>Austin Averett</cp:lastModifiedBy>
  <dcterms:modified xsi:type="dcterms:W3CDTF">2012-04-09T22:08:01Z</dcterms:modified>
  <cp:revision>8</cp:revision>
  <dc:subject/>
  <dc:title/>
</cp:coreProperties>
</file>